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CAB3D-AD78-4168-8950-1E315FEB3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69339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90360" y="4040280"/>
            <a:ext cx="69339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3E2CD-2DA9-44D8-80A7-22B7AD38D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33836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43560" y="2209320"/>
            <a:ext cx="33836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90360" y="4040280"/>
            <a:ext cx="33836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43560" y="4040280"/>
            <a:ext cx="33836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42961-99A2-419F-A386-B2BCFFFFD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223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34680" y="2209320"/>
            <a:ext cx="223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79000" y="2209320"/>
            <a:ext cx="223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90360" y="4040280"/>
            <a:ext cx="223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34680" y="4040280"/>
            <a:ext cx="223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79000" y="4040280"/>
            <a:ext cx="223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70259-14A3-4B93-8EC1-F36B0CE09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914A6-FB88-4DF6-AB7D-3D18F66F7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990360" y="2209320"/>
            <a:ext cx="6933960" cy="35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2B711-FC9C-4A4D-A873-3B6A3F399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693396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C2ACC-95CE-4D92-A7B4-1FA1B0FAC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338364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43560" y="2209320"/>
            <a:ext cx="338364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602D2-1406-4C17-A8F9-DA1B3CB39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5C173-DCB8-4B42-AE0D-A08AAC38F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066320" y="990360"/>
            <a:ext cx="67820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AC573-8655-4A8C-A48D-BC3F7D6FA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33836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43560" y="2209320"/>
            <a:ext cx="338364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990360" y="4040280"/>
            <a:ext cx="33836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54BA7-E8D0-43F0-906A-658481008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90360" y="2209320"/>
            <a:ext cx="6933960" cy="35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3255F-2678-43A3-A55A-603320C63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338364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43560" y="2209320"/>
            <a:ext cx="33836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43560" y="4040280"/>
            <a:ext cx="33836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2EF70-252C-49DD-8B83-3CC01D1B5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33836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43560" y="2209320"/>
            <a:ext cx="33836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90360" y="4040280"/>
            <a:ext cx="69339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EAD61-3D62-4FC1-8A4F-56E69A223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69339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990360" y="4040280"/>
            <a:ext cx="69339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D43E8-B94E-41C7-AB86-C3D3934D2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33836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43560" y="2209320"/>
            <a:ext cx="33836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90360" y="4040280"/>
            <a:ext cx="33836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43560" y="4040280"/>
            <a:ext cx="33836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BBE9B-05BF-4C83-8956-D9CFB27E2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223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2209320"/>
            <a:ext cx="223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79000" y="2209320"/>
            <a:ext cx="223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990360" y="4040280"/>
            <a:ext cx="223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4040280"/>
            <a:ext cx="223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79000" y="4040280"/>
            <a:ext cx="223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F0C0C-A1E4-4CEE-A099-ABC5B2753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693396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BBC1E-EAC9-4952-B86C-D28590E70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338364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43560" y="2209320"/>
            <a:ext cx="338364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D8CB3-229B-4EA8-81B9-42BB98501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29B00-D952-4391-BA10-ABBDEB3F8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66320" y="990360"/>
            <a:ext cx="67820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3FBEE-64A6-4ADD-A77F-8A6519269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33836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43560" y="2209320"/>
            <a:ext cx="338364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90360" y="4040280"/>
            <a:ext cx="33836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41E2D-0177-49F8-A73D-EA2FB062F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338364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43560" y="2209320"/>
            <a:ext cx="33836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43560" y="4040280"/>
            <a:ext cx="33836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7921B-7F9E-4011-A389-07C321332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33836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43560" y="2209320"/>
            <a:ext cx="33836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90360" y="4040280"/>
            <a:ext cx="69339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1F881-69D7-4578-8892-CE6C3C8C6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90360" y="2209320"/>
            <a:ext cx="693396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639000" indent="-24552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82800" indent="-19656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3" marL="1375920" indent="-19656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4" marL="1769040" indent="-19656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5" marL="1769040" indent="-19656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6" marL="1769040" indent="-19656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FF476-87A5-497B-8C1B-7FC5A15950B2}" type="slidenum">
              <a:rPr b="0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88640" y="1371240"/>
            <a:ext cx="67057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4A1BE-DA31-42C1-BF6D-3792047464EC}" type="slidenum">
              <a:rPr b="0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ffffff"/>
              </a:buClr>
              <a:buFont typeface="Verdana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ffffff"/>
              </a:buClr>
              <a:buFont typeface="Verdana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51"/>
              </a:spcBef>
              <a:buClr>
                <a:srgbClr val="ffffff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indexmundi.com/china/gdp_per_capita_(ppp).html" TargetMode="External"/><Relationship Id="rId3" Type="http://schemas.openxmlformats.org/officeDocument/2006/relationships/hyperlink" Target="http://globalis.gvu.unu.edu/indicator_detail.cfm?IndicatorID=45&amp;Country=CN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88640" y="1371240"/>
            <a:ext cx="67057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Chapter 25:  Production &amp; Growth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142640" y="3886200"/>
            <a:ext cx="6629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e fastest way to help your countr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hina rules!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693396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6ccff"/>
                </a:solidFill>
                <a:uFillTx/>
                <a:latin typeface="Verdana"/>
                <a:hlinkClick r:id="rId2"/>
              </a:rPr>
              <a:t>http://www.indexmundi.com/china/gdp_per_capita_(ppp).htm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6ccff"/>
                </a:solidFill>
                <a:uFillTx/>
                <a:latin typeface="Verdana"/>
                <a:hlinkClick r:id="rId3"/>
              </a:rPr>
              <a:t>http://globalis.gvu.unu.edu/indicator_detail.cfm?IndicatorID=45&amp;Country=C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World Culture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693396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What are the 3 requirements for civilization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How does it still apply today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Key element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693396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oundation of productivity can be found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1.  Increasing capital (both kinds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Verdan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Be wary of DIMINISHING RETURN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2.  CATCH-UP EFFEC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3.  FOREIGN DIRECT INVESTMEN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Verdan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WORLD BANK &amp; IMF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Others tooo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693396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lso to conside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OSITIVE EXTERNALITIES of improvemen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BRAIN DRAI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Effect of foreign trad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Pessimist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693396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omas Malthu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ig unhappy worl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Why was he wrong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Will that ever change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Summary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693396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retty basic chapter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till setting foundation for macro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Growth is critical…get there through increased productivit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HW (page 559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QFR: 1, 3, 4, 6, 7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AA: 1, 4, 7, 9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Overview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693396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One big key concept--growth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Reasons for/ways to do i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RODUCTIVIT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Look at foreign economi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Video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693396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VOCAB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693396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roductivit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unch of stuff coming back from micro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More, more, more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693396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Obviously we want mor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We have a lo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Why do some countries not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f you can’t produce it, you don’t get i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at’s still not enough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More important?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693396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Which matters more…how much you have or how much you increase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ink about tha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Happiness could be best defined by your increas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How do you get it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PRODUCTIVITY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693396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asiest defined as OUTPUT/INPU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Need to find out a way to produce more with les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4 ways to do i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ink factors of producti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ings used to make everything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ore of them gets you more stuff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KEY PART:  what does it look like?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693396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More specifically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693396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1.  Physical capita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2.  Human capita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3.  Natural resourc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4.  Technological knowledg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Why does society in general benefit from increased productivity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4T04:10:33Z</dcterms:created>
  <dc:creator>Lewisburg Area School District</dc:creator>
  <dc:description/>
  <dc:language>en-US</dc:language>
  <cp:lastModifiedBy>Lewisburg Area School District</cp:lastModifiedBy>
  <dcterms:modified xsi:type="dcterms:W3CDTF">2010-01-27T15:16:12Z</dcterms:modified>
  <cp:revision>7</cp:revision>
  <dc:subject/>
  <dc:title>Chapter 25:  Production &amp; Growth</dc:title>
</cp:coreProperties>
</file>